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35.wmf" ContentType="image/x-wmf"/>
  <Override PartName="/ppt/media/image8.jpeg" ContentType="image/jpeg"/>
  <Override PartName="/ppt/media/image13.wmf" ContentType="image/x-wmf"/>
  <Override PartName="/ppt/media/image10.jpeg" ContentType="image/jpeg"/>
  <Override PartName="/ppt/media/image29.wmf" ContentType="image/x-wmf"/>
  <Override PartName="/ppt/media/image11.png" ContentType="image/png"/>
  <Override PartName="/ppt/media/image31.wmf" ContentType="image/x-wmf"/>
  <Override PartName="/ppt/media/image6.wmf" ContentType="image/x-wmf"/>
  <Override PartName="/ppt/media/image36.wmf" ContentType="image/x-wmf"/>
  <Override PartName="/ppt/media/image12.jpeg" ContentType="image/jpeg"/>
  <Override PartName="/ppt/media/image34.jpeg" ContentType="image/jpeg"/>
  <Override PartName="/ppt/media/image38.wmf" ContentType="image/x-wmf"/>
  <Override PartName="/ppt/media/image30.jpeg" ContentType="image/jpeg"/>
  <Override PartName="/ppt/media/image37.wmf" ContentType="image/x-wmf"/>
  <Override PartName="/ppt/media/image7.wmf" ContentType="image/x-wmf"/>
  <Override PartName="/ppt/media/image20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2.jpeg" ContentType="image/jpeg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09A8-FC00-4818-A17E-8E5613E6D6F2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ED29-988D-4EC9-A7E1-9E757B78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2AD3-62C5-45B9-AE63-8AE8EF32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2B1D-B472-4AF8-9E9D-9D06894A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F62-6B51-4A03-A25E-CAC40944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62F8-D3A0-4B49-9D15-1A3422FA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E5E66-9C05-48B3-BAB2-3A977A73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C81E-F5BE-4660-9B84-B41F1D2E5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5967-3E06-476D-8521-3921644B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D755-7F82-4E56-A14E-85CBA533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7BE5-A325-46FE-A309-A8C09127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B4BD-2042-4979-A502-0981F5E6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1E1-C9D8-45FB-81CD-44DE066E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1E46-D0FD-4337-A649-FF125C2E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CF4F-90BB-4CFB-A04C-0123A9E7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2968C-96A3-4A12-A1F5-013F6E44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5757-0B50-4DD9-B1D3-4C9CD783B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2112-3865-4FC9-8A51-4E3382A9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D507B-FF71-4774-8737-C33607567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8B738-A984-4ECB-8933-C1FE603E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B42C4-3378-40A6-9B4E-F1FABF89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A1C9-76C6-4CED-838B-54A44D28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0D286-86DE-4642-A334-671EA78E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B22-AFAC-436A-9ED3-A8D508EF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6560-77BF-4E10-9FCD-F36556AF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BCB3-DE40-4F89-B9FA-67534914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2790C-4D56-4185-B3BD-67A8CAA3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43B3F-E091-4AA3-B389-9881DCAE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898E-FC1A-4952-B43B-7C1841A4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04AB-DA50-4BE6-83ED-2CDADC44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6BB6-3211-406B-BBD1-7B4836C7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0AD0-3859-4ABF-9055-69E05176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F1619-E96C-4467-AAC5-0B66CBDC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808AD-E524-48B6-B176-CA8FB1C6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90D1-626C-4473-BB63-1B6B7816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0BC7B-64EF-4677-9621-160DA1EF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483D4-215B-4B28-84B3-B6D4A062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79186-1BA4-4177-8025-5C7B965C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8C3E6-BF26-49C4-BE69-E2698DE8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EE16-EAAB-47BE-8F46-7D29BB2D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7EA17-9204-4284-9A72-E84DA594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09954-1538-4980-92CE-6392F9E0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CCC3F-0EE4-4C0A-9CBB-A41C43E0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0171E-863F-4982-8B0A-5922473E9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96F8E-C3EE-491E-B33B-8499DDB7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C4C-222B-40D6-B5FF-6875C36A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44E55-3AA2-4B24-A5A9-0AF1148A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BA808-277C-4DDE-B034-DABD9D19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15AB3-7EF4-489A-B93C-75382116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6101E-A9EF-4245-B83A-6FCCC8D5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CA8E0-DD5B-48C1-91B7-905A9748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870E-E28A-4C32-842B-16AD3633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DD734-44A8-4412-B456-A0D968B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09CA5-AF1C-4344-A8D5-7CA571B8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3125F-32FE-4BBF-B6B8-E70D93C5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DEE59-9CF3-485E-BBBE-9D193C1E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8423-B07B-4B81-8774-D28155BB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66314-7217-4BB6-84F7-3B9A0CD5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9F84-0003-4131-A42F-0178357F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4A70-43A9-424C-BA27-F630A029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29B3-627F-44A7-B2D3-CD0F981F2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5910-A2E1-4E84-8C66-889E66DEC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7032-6F37-446D-BA44-FCABE190D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34A4-5F63-46D6-B5A3-54ED58FE1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0EB4-6498-40E4-BFD4-850490AB8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92360" y="609120"/>
            <a:ext cx="316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EBD9-E4E3-4420-ADB8-DDCC7D701A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270828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en 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32000" y="0"/>
            <a:ext cx="7315200" cy="72612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279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0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287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88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29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29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1908000" y="115920"/>
            <a:ext cx="7093080" cy="40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PUNO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30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160720" y="71280"/>
            <a:ext cx="6875280" cy="76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7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340000" y="-2700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310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n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11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317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9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79280" y="0"/>
            <a:ext cx="692316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CAO POR PRINCIPALES DEPARTAMENTOS 1990-2003 (Miles T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080" y="836640"/>
            <a:ext cx="9142920" cy="6023160"/>
            <a:chOff x="1080" y="836640"/>
            <a:chExt cx="9142920" cy="6023160"/>
          </a:xfrm>
        </p:grpSpPr>
        <p:graphicFrame>
          <p:nvGraphicFramePr>
            <p:cNvPr id="324" name=""/>
            <p:cNvGraphicFramePr/>
            <p:nvPr/>
          </p:nvGraphicFramePr>
          <p:xfrm>
            <a:off x="206280" y="836640"/>
            <a:ext cx="8937720" cy="5778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6280" y="836640"/>
                      <a:ext cx="8937720" cy="5778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"/>
            <p:cNvSpPr/>
            <p:nvPr/>
          </p:nvSpPr>
          <p:spPr>
            <a:xfrm>
              <a:off x="1080" y="6400800"/>
              <a:ext cx="217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usc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chiote – Colorantes (AICACOL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miento Piquill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Granos Andinos Procesados (Industrias Molicusc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millas (Semillas Andahuayl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ara (CIDI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nestras (Don Gra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rnes Rojas (AGROBA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erámicas Kant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amisea (Pluspe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364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3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7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1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5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9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3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500"/>
                            </p:stCondLst>
                            <p:childTnLst>
                              <p:par>
                                <p:cTn id="3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7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1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500"/>
                            </p:stCondLst>
                            <p:childTnLst>
                              <p:par>
                                <p:cTn id="3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5" dur="500"/>
                                        <p:tgtEl>
                                          <p:spTgt spid="3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3" dur="500"/>
                                        <p:tgtEl>
                                          <p:spTgt spid="3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000"/>
                            </p:stCondLst>
                            <p:childTnLst>
                              <p:par>
                                <p:cTn id="32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7" dur="500"/>
                                        <p:tgtEl>
                                          <p:spTgt spid="3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500"/>
                            </p:stCondLst>
                            <p:childTnLst>
                              <p:par>
                                <p:cTn id="32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1" dur="5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5" dur="500"/>
                                        <p:tgtEl>
                                          <p:spTgt spid="3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500"/>
                            </p:stCondLst>
                            <p:childTnLst>
                              <p:par>
                                <p:cTn id="33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9" dur="500"/>
                                        <p:tgtEl>
                                          <p:spTgt spid="3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4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141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ICACOLOR</a:t>
            </a:r>
            <a:br>
              <a:rPr sz="28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Colorantes de Achiot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2195640" y="2852640"/>
            <a:ext cx="4681440" cy="26798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MISEA - PLUSPETRO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1163520" y="1981080"/>
            <a:ext cx="6816960" cy="4114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21080" y="155736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 CAMISEA A L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09440" y="65390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lustetr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219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n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KANTU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(Cerámica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2050920" y="1773360"/>
            <a:ext cx="514836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Pu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633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ranos (Quinua, Cañihua, Hab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f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ca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lanta Medici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Frutas y Cítric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arnes y Derivados Proces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ejidos Artesan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ie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Lana de Ovino y Fibra de Alpa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ruc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Joy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Tur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500"/>
                            </p:stCondLst>
                            <p:childTnLst>
                              <p:par>
                                <p:cTn id="38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6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2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4000"/>
                            </p:stCondLst>
                            <p:childTnLst>
                              <p:par>
                                <p:cTn id="40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6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500"/>
                            </p:stCondLst>
                            <p:childTnLst>
                              <p:par>
                                <p:cTn id="40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0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4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500"/>
                            </p:stCondLst>
                            <p:childTnLst>
                              <p:par>
                                <p:cTn id="41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8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2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6500"/>
                            </p:stCondLst>
                            <p:childTnLst>
                              <p:par>
                                <p:cTn id="42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26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0" dur="5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228600" y="2997360"/>
            <a:ext cx="891540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¡Upa upa upapá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</a:rPr>
              <a:t>El Cienciano es el papá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4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6" name=""/>
          <p:cNvSpPr/>
          <p:nvPr/>
        </p:nvSpPr>
        <p:spPr>
          <a:xfrm>
            <a:off x="-5400" y="634032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40000" y="-10044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ZINC POR DEPARTAMENTOS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907920"/>
          <a:ext cx="9144000" cy="54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-5400" y="6437160"/>
            <a:ext cx="207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08000" y="-360"/>
            <a:ext cx="73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LATA POR DEPARTAMENTOS</a:t>
            </a:r>
            <a:br>
              <a:rPr sz="1200"/>
            </a:b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1990-2004*</a:t>
            </a: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1440" y="907920"/>
          <a:ext cx="9141120" cy="558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907920"/>
                    <a:ext cx="9141120" cy="55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318360"/>
            <a:ext cx="313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* Datos al mes de jul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47640" y="44280"/>
            <a:ext cx="7596360" cy="93348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VENTA DE BOLETOS TURISTICOS A VISITANTES NACIONALES Y EXTRANJEROS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2002 – jul 2004 (N° DE BOLETO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080" y="1047600"/>
            <a:ext cx="8832240" cy="5709960"/>
            <a:chOff x="91080" y="1047600"/>
            <a:chExt cx="8832240" cy="5709960"/>
          </a:xfrm>
        </p:grpSpPr>
        <p:grpSp>
          <p:nvGrpSpPr>
            <p:cNvPr id="376" name=""/>
            <p:cNvGrpSpPr/>
            <p:nvPr/>
          </p:nvGrpSpPr>
          <p:grpSpPr>
            <a:xfrm>
              <a:off x="91080" y="1047600"/>
              <a:ext cx="8832240" cy="5709960"/>
              <a:chOff x="91080" y="1047600"/>
              <a:chExt cx="8832240" cy="5709960"/>
            </a:xfrm>
          </p:grpSpPr>
          <p:sp>
            <p:nvSpPr>
              <p:cNvPr id="377" name=""/>
              <p:cNvSpPr/>
              <p:nvPr/>
            </p:nvSpPr>
            <p:spPr>
              <a:xfrm>
                <a:off x="91080" y="6237360"/>
                <a:ext cx="225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uente: OFEC-CUSCO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laboración: </a:t>
                </a:r>
                <a:r>
                  <a:rPr b="0" i="1" lang="en-US" sz="1400" spc="-1" strike="noStrike">
                    <a:solidFill>
                      <a:srgbClr val="ffffff"/>
                    </a:solidFill>
                    <a:latin typeface="Times New Roman"/>
                  </a:rPr>
                  <a:t>inform@cció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378" name=""/>
              <p:cNvGraphicFramePr/>
              <p:nvPr/>
            </p:nvGraphicFramePr>
            <p:xfrm>
              <a:off x="162000" y="1047600"/>
              <a:ext cx="8761320" cy="511668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379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62000" y="1047600"/>
                        <a:ext cx="8761320" cy="511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380" name=""/>
            <p:cNvSpPr/>
            <p:nvPr/>
          </p:nvSpPr>
          <p:spPr>
            <a:xfrm>
              <a:off x="1733400" y="1736640"/>
              <a:ext cx="6718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02                                           2003                          200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68120" y="838080"/>
            <a:ext cx="8975880" cy="6021720"/>
            <a:chOff x="168120" y="838080"/>
            <a:chExt cx="8975880" cy="6021720"/>
          </a:xfrm>
        </p:grpSpPr>
        <p:sp>
          <p:nvSpPr>
            <p:cNvPr id="225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26" name=""/>
            <p:cNvGraphicFramePr/>
            <p:nvPr/>
          </p:nvGraphicFramePr>
          <p:xfrm>
            <a:off x="176040" y="838080"/>
            <a:ext cx="89679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6040" y="838080"/>
                      <a:ext cx="89679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235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6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239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979640" y="44280"/>
            <a:ext cx="7164360" cy="77508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-5040" y="6400800"/>
            <a:ext cx="201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Datos al mes de jul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79280" y="981000"/>
          <a:ext cx="89154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915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756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OBRE POR PRINCIPALES EMPRESAS 1991-2004* (M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iles 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-7668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PRODUCCION DE PETROLEO POR ZONA 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1975 – 2004* (Miles de barriles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6340320"/>
            <a:ext cx="322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* Datos al mes de julio del 2004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981000"/>
          <a:ext cx="9220320" cy="523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1000"/>
                    <a:ext cx="922032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1901880" y="907920"/>
            <a:ext cx="985680" cy="762120"/>
          </a:xfrm>
          <a:prstGeom prst="downArrowCallout">
            <a:avLst>
              <a:gd name="adj1" fmla="val 32336"/>
              <a:gd name="adj2" fmla="val 32333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2019240"/>
            <a:ext cx="1008000" cy="833400"/>
          </a:xfrm>
          <a:prstGeom prst="downArrowCallout">
            <a:avLst>
              <a:gd name="adj1" fmla="val 30240"/>
              <a:gd name="adj2" fmla="val 3023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264440" y="2612880"/>
            <a:ext cx="979560" cy="74484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  <a:effectLst>
            <a:outerShdw dist="13968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68320" y="-360"/>
            <a:ext cx="737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BALANZA COMERCIAL DE HIDROCARBUROS </a:t>
            </a:r>
            <a:br>
              <a:rPr sz="1600"/>
            </a:b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1975-2004*</a:t>
            </a:r>
            <a:r>
              <a:rPr b="1" lang="es-MX" sz="1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400" spc="-1" strike="noStrike">
                <a:solidFill>
                  <a:srgbClr val="ffffff"/>
                </a:solidFill>
                <a:latin typeface="Verdana"/>
              </a:rPr>
              <a:t>Millones US$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-3960" y="789120"/>
            <a:ext cx="8900280" cy="6168240"/>
            <a:chOff x="-3960" y="789120"/>
            <a:chExt cx="8900280" cy="6168240"/>
          </a:xfrm>
        </p:grpSpPr>
        <p:sp>
          <p:nvSpPr>
            <p:cNvPr id="262" name=""/>
            <p:cNvSpPr/>
            <p:nvPr/>
          </p:nvSpPr>
          <p:spPr>
            <a:xfrm>
              <a:off x="-3960" y="6437160"/>
              <a:ext cx="2907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* Datos al mes de m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MEM / INFORM@CC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63" name=""/>
            <p:cNvGraphicFramePr/>
            <p:nvPr/>
          </p:nvGraphicFramePr>
          <p:xfrm>
            <a:off x="0" y="789120"/>
            <a:ext cx="8896320" cy="5421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789120"/>
                      <a:ext cx="8896320" cy="542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in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0" y="1127160"/>
          <a:ext cx="9163080" cy="521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7160"/>
                    <a:ext cx="916308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"/>
          <p:cNvSpPr/>
          <p:nvPr/>
        </p:nvSpPr>
        <p:spPr>
          <a:xfrm>
            <a:off x="-1800" y="650880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050560" y="-27360"/>
            <a:ext cx="70930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ENERGIA ELECTRICA A NIVEL NACIONAL</a:t>
            </a:r>
            <a:br>
              <a:rPr sz="1600"/>
            </a:b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1985-2004* (Miles GWH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68600" y="2306520"/>
            <a:ext cx="1066680" cy="762120"/>
          </a:xfrm>
          <a:prstGeom prst="downArrowCallout">
            <a:avLst>
              <a:gd name="adj1" fmla="val 34994"/>
              <a:gd name="adj2" fmla="val 34991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630840" y="1268280"/>
            <a:ext cx="1067040" cy="762120"/>
          </a:xfrm>
          <a:prstGeom prst="downArrowCallout">
            <a:avLst>
              <a:gd name="adj1" fmla="val 35005"/>
              <a:gd name="adj2" fmla="val 35002"/>
              <a:gd name="adj3" fmla="val 16667"/>
              <a:gd name="adj4" fmla="val 6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8-12T15:46:07Z</dcterms:modified>
  <cp:revision>1157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02352501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</Properties>
</file>